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A2A-9638-443D-BA6C-9CCB123E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442-9A56-428E-82DA-4666E76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923-4E49-4923-9F66-D988F5A5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438-2C52-43EB-89BF-D086322A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D70-39DF-4976-8A6E-AAEE4A90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3E7-055B-440E-8EE1-0EEBAE49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819-DA96-422F-BBD4-62C0EDEF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AED-9881-4F6A-BBEB-3E55EA23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AF7-1EF0-43AF-9917-89CA6846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778-CAFE-41ED-9C14-C6CAB3F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BF9-1AF5-4C3C-944D-53FA95E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B38-DDB5-4FBE-A425-F31C273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A4DF-AA87-45DB-8F6A-C30A80377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1295280"/>
            <a:ext cx="5943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t des ro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752480"/>
            <a:ext cx="7162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ymbo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on trou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 drap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838080" y="990720"/>
            <a:ext cx="72392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ays vois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Lib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38080" y="1143000"/>
            <a:ext cx="72392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gion du monde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trouve Lib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bleu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blan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14400" y="106668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énicic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étruite p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Ro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219320" y="914400"/>
            <a:ext cx="6629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utur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King of Cling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990720" y="91440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égion d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atères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erre des Etoiles”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143000" y="1523880"/>
            <a:ext cx="71629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066680" y="25909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b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99072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ancie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teress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mine 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1440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soci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914400" y="990720"/>
            <a:ext cx="73915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inven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robe trapèz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le smoking fémin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143000" y="990720"/>
            <a:ext cx="6934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te archéolog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portes du dés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523880" y="1676520"/>
            <a:ext cx="6096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762120" y="1066680"/>
            <a:ext cx="7696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lus moder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a Place Mohamed V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066680" y="762120"/>
            <a:ext cx="67057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entre cultur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religi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e des plus vie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dinas du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143000" y="990720"/>
            <a:ext cx="723888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bois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hospitalit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914400" y="1066680"/>
            <a:ext cx="73915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joli petit po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climat do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762120" y="1143000"/>
            <a:ext cx="76197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ype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sique la pl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pulaire dans  le Maghre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943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nis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47920" y="1447920"/>
            <a:ext cx="670536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ville et pays 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usique la p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pulaire a origi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838080" y="1066680"/>
            <a:ext cx="73915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hante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lge 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« Mon Amie La Rose 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066680" y="1143000"/>
            <a:ext cx="72392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teuse d’orig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rbère qui s’oppo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a famille traditionnalis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762120" y="914400"/>
            <a:ext cx="7619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des 2 chant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lus populaires de raï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676520" y="1523880"/>
            <a:ext cx="5715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ur de la sem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f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219320" y="12193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invit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rrang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143000" y="121932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 mari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tatou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bonhe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066680" y="114300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uisin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itionn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fê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066680" y="1066680"/>
            <a:ext cx="72392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les mari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llés la sema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 pour la bénedic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signer les papiers officie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95280" y="2590920"/>
            <a:ext cx="6705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g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ur d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l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éat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Jour d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byle 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arbe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pareil?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Maghre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 de 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lé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vant  Jd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byle ou Arab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rsonn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43000" y="1066680"/>
            <a:ext cx="73152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ou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066680" y="137160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’est zarb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3880" y="1828800"/>
            <a:ext cx="6019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ro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219320" y="114300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ver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990720" y="1143000"/>
            <a:ext cx="6705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p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verl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762120" y="990720"/>
            <a:ext cx="7467480" cy="518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keutr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990720" y="1143000"/>
            <a:ext cx="71625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jour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914400" y="1066680"/>
            <a:ext cx="74674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dema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 mariage e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ant la cérémon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990720" y="914400"/>
            <a:ext cx="73911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e sur le doig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montrer qu’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mari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une fem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rte sur le doig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rès la demande en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838080" y="838080"/>
            <a:ext cx="7543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erson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regardent la cérémon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signent les documents officie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vérifier l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143000" y="1066680"/>
            <a:ext cx="69343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géri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259092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us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371600" y="1600200"/>
            <a:ext cx="6095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uturi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bana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85800" y="914400"/>
            <a:ext cx="7772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quoi Nadia Tuén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écrit sa premiè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ection de poè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143000" y="12952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tasha Atl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it son déb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 chante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990720" y="1219320"/>
            <a:ext cx="70866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origine de Dju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où elle a form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groupe Djur Dju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838080" y="838080"/>
            <a:ext cx="70106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all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a Mosqu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lim a offer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x parents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asmin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lim a offert à Yasmina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nouvelle fianc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066680" y="1066680"/>
            <a:ext cx="72392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’app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demande en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ditionnelle  2 mois av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114300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’app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nuit du hen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ux jours av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914400" y="1143000"/>
            <a:ext cx="71629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Vér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télépho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sa m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14400" y="1295280"/>
            <a:ext cx="7162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ur de Mari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762120" y="106668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est n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ch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il est 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origin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990720" y="1066680"/>
            <a:ext cx="7315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hab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t où habita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mère de Vér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990720" y="990720"/>
            <a:ext cx="731520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le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nclusion de l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ère sur l’orig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Rachi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066680" y="990720"/>
            <a:ext cx="70106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a conclu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mè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ironiqu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066680" y="13716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nord de l’Afri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838080" y="11430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bit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région en Algér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uvernemen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ide les jeu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migrés maghréb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106668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lgérie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’origine européen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ont dû quitter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s après la Guer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762120" y="838080"/>
            <a:ext cx="769608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 très utilis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s immigré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abes (un pe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éjoratif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838080" y="4038480"/>
            <a:ext cx="7620120" cy="204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a Guerre Algérienn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ib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unis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gé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o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siqu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7724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riag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and est-ce qu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’Algérie a gagn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n indépendance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uf c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xante-deux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312408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apit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Phyllis</cp:lastModifiedBy>
  <dcterms:modified xsi:type="dcterms:W3CDTF">2014-10-12T16:38:13Z</dcterms:modified>
  <cp:revision>99</cp:revision>
  <dc:subject/>
  <dc:title>No Slide Title</dc:title>
</cp:coreProperties>
</file>